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1C8-F0D1-495D-AD34-AA3A0C9B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144-DBDF-4727-BD08-867EDE9E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087-81EE-41A3-851E-415185A8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01B-2AB6-45AE-9C67-220E7164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306C-1A76-492A-BEA3-72866F88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8209-654A-4758-8CBF-DA833C21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27AC-A7B2-4AAF-B89C-C00701F3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BDE2-9DB6-408C-8C5E-D16CAC0A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267C-B8B7-4AB5-B4E5-4600A21E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2953-9507-4F9D-B1E2-DEBD4481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F1F9-9C6E-4BEB-B14D-F5BE0F8B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4BE-072C-46EC-9AA6-E78DBFDD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21CE-3E94-482C-B8BD-832C2278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F2D9-36BC-4D30-B03C-1A0DEC1C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314E-15B5-4FA1-BB03-CAF85971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90D0-C85C-44EA-9202-8E6AD496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37C5-9745-4A6E-A2A9-A9E09FF2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CAF-01F9-4B78-A834-C2E9239E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FC3-B011-4441-B2EA-0641367C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BD1-EF1E-416B-B9C0-10162E2E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0B4-F9D9-4A05-8D57-34213998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0CC-87F2-460B-AAEA-E34C0DA9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845-7089-49CB-9A99-653451BE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270-1693-44C5-A25A-E09D8D28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0432-2675-49AE-9A73-9E1D5A753CAB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9477-EB9F-40E4-AC0E-0843190746AE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Going, Going, Gone with the Pain and the Great On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Judy Blume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y Cin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bigail is perfect and bossy they call her the great on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ake is dumb and they call him the p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d and Mom are nice and bossy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t is mea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y went to the beach with there grandm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 the carnival Jake with there au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ake in a mall with Abigail and da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y went to Everglades City to visit there grandpa Pe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ake got lost in the mall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bigail told some girls to save her spot for a ride and the girls just lef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ake put a flower up his nose and the babysitter took him to the hospit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t is always mean to the babysitt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1and 2 main event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5:41:02Z</dcterms:created>
  <dc:creator>Default User</dc:creator>
  <dc:description/>
  <dc:language>en-US</dc:language>
  <cp:lastModifiedBy>D83  User</cp:lastModifiedBy>
  <dcterms:modified xsi:type="dcterms:W3CDTF">2010-12-09T15:29:16Z</dcterms:modified>
  <cp:revision>5</cp:revision>
  <dc:subject/>
  <dc:title>Going, going, gone with the pain  and the great one</dc:title>
</cp:coreProperties>
</file>